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90F-3F62-4176-B838-FFBC576E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717-355E-4354-96EF-2AD4AC1E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7A4-7D6F-4B7A-94AC-EC925941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F31-0A3F-41E2-A0C8-C29C38A4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12D-D7B3-476C-BC65-8A009723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3A8-5B4A-4D3C-928E-7CF6E2F9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274-FF3B-4D55-9500-708BE017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41B-EF8B-4BBA-B74E-9A73CAFF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76A-22AF-4DDA-A23C-59F24099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93A-5843-467A-9659-0C3CEDB4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ED6-0248-4CAC-8FDD-BC6CA387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F34-98C4-4A8C-B0A0-6757AEF5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BDC1-942A-4241-96D7-E623AEA58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PEARL HARBO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1160"/>
            <a:ext cx="86868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7640"/>
            <a:ext cx="8534160" cy="68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2600"/>
            <a:ext cx="86868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41400"/>
            <a:ext cx="8534160" cy="67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4400"/>
            <a:ext cx="838224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6480"/>
            <a:ext cx="83822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9360"/>
            <a:ext cx="86868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90720"/>
            <a:ext cx="9051840" cy="16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792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Estas  fotos fueron encontradas en la taquilla de un marinero que prestaba servicios USS Quapa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2160" y="4114800"/>
            <a:ext cx="9051840" cy="21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792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       </a:t>
            </a:r>
            <a:r>
              <a:rPr b="0" lang="pt-PT" sz="36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La calidad de las fotos es sorprendente y el valor histórico inestimable porque fueron captadas durante el ataque a Pearl Harb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440"/>
            <a:ext cx="86868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4400"/>
            <a:ext cx="8686800" cy="68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-11160"/>
            <a:ext cx="82296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-9360"/>
            <a:ext cx="853416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-41400"/>
            <a:ext cx="853416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2040" y="0"/>
            <a:ext cx="547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17:19:33Z</dcterms:created>
  <dc:creator>CELIA REGINA</dc:creator>
  <dc:description/>
  <dc:language>en-US</dc:language>
  <cp:lastModifiedBy>usuario</cp:lastModifiedBy>
  <dcterms:modified xsi:type="dcterms:W3CDTF">2007-06-20T02:05:23Z</dcterms:modified>
  <cp:revision>5</cp:revision>
  <dc:subject/>
  <dc:title>Apresentação do PowerPoint</dc:title>
</cp:coreProperties>
</file>